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3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99404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比例的基本性质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027073"/>
          <p:cNvSpPr/>
          <p:nvPr/>
        </p:nvSpPr>
        <p:spPr>
          <a:xfrm>
            <a:off x="254160" y="140796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右图由左图缩小后得到，根据图形列比例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值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4" name="图片 1027076" descr=""/>
          <p:cNvPicPr/>
          <p:nvPr/>
        </p:nvPicPr>
        <p:blipFill>
          <a:blip r:embed="rId1"/>
          <a:stretch/>
        </p:blipFill>
        <p:spPr>
          <a:xfrm>
            <a:off x="431640" y="2879640"/>
            <a:ext cx="4415040" cy="2214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1027077"/>
          <p:cNvSpPr/>
          <p:nvPr/>
        </p:nvSpPr>
        <p:spPr>
          <a:xfrm>
            <a:off x="5513400" y="3166920"/>
            <a:ext cx="3147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.5∶1.2=1.2∶x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=1.2×1.2÷4.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=0.3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1014785"/>
          <p:cNvSpPr/>
          <p:nvPr/>
        </p:nvSpPr>
        <p:spPr>
          <a:xfrm>
            <a:off x="254160" y="1501920"/>
            <a:ext cx="8889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因数有（                  ），从中选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组成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（                  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∶7 =12∶2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比例的（     ）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（ 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一个比例中，两个外项的积是最大的一位数，其中一个内项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另一个内项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文本框 1014802"/>
          <p:cNvSpPr/>
          <p:nvPr/>
        </p:nvSpPr>
        <p:spPr>
          <a:xfrm>
            <a:off x="2468520" y="2502360"/>
            <a:ext cx="3089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" name="文本框 1014803"/>
          <p:cNvSpPr/>
          <p:nvPr/>
        </p:nvSpPr>
        <p:spPr>
          <a:xfrm>
            <a:off x="560520" y="3010320"/>
            <a:ext cx="4098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∶1=6∶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答案不唯一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文本框 1014804"/>
          <p:cNvSpPr/>
          <p:nvPr/>
        </p:nvSpPr>
        <p:spPr>
          <a:xfrm>
            <a:off x="5597640" y="3505680"/>
            <a:ext cx="89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外项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文本框 1014805"/>
          <p:cNvSpPr/>
          <p:nvPr/>
        </p:nvSpPr>
        <p:spPr>
          <a:xfrm>
            <a:off x="822240" y="4013640"/>
            <a:ext cx="89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内项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文本框 1014806"/>
          <p:cNvSpPr/>
          <p:nvPr/>
        </p:nvSpPr>
        <p:spPr>
          <a:xfrm>
            <a:off x="2967120" y="5016960"/>
            <a:ext cx="390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049601"/>
          <p:cNvSpPr/>
          <p:nvPr/>
        </p:nvSpPr>
        <p:spPr>
          <a:xfrm>
            <a:off x="225360" y="199404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a=6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写成分数的形式是           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组成一个比例是（ 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甲的  和乙的  相等，甲和乙的最简整数比是（ 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3" name="对象 1049602"/>
          <p:cNvGraphicFramePr/>
          <p:nvPr/>
        </p:nvGraphicFramePr>
        <p:xfrm>
          <a:off x="4335480" y="2031840"/>
          <a:ext cx="13971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对象 10496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5480" y="2031840"/>
                    <a:ext cx="13971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矩形 1049603"/>
          <p:cNvSpPr/>
          <p:nvPr/>
        </p:nvSpPr>
        <p:spPr>
          <a:xfrm>
            <a:off x="4443840" y="1741320"/>
            <a:ext cx="34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矩形 1049604"/>
          <p:cNvSpPr/>
          <p:nvPr/>
        </p:nvSpPr>
        <p:spPr>
          <a:xfrm>
            <a:off x="4468680" y="2163600"/>
            <a:ext cx="357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矩形 1049605"/>
          <p:cNvSpPr/>
          <p:nvPr/>
        </p:nvSpPr>
        <p:spPr>
          <a:xfrm>
            <a:off x="5272560" y="1781280"/>
            <a:ext cx="340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矩形 1049606"/>
          <p:cNvSpPr/>
          <p:nvPr/>
        </p:nvSpPr>
        <p:spPr>
          <a:xfrm>
            <a:off x="5281920" y="2171880"/>
            <a:ext cx="340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文本框 1049607"/>
          <p:cNvSpPr/>
          <p:nvPr/>
        </p:nvSpPr>
        <p:spPr>
          <a:xfrm>
            <a:off x="4684680" y="2489760"/>
            <a:ext cx="126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文本框 1049608"/>
          <p:cNvSpPr/>
          <p:nvPr/>
        </p:nvSpPr>
        <p:spPr>
          <a:xfrm>
            <a:off x="6062760" y="248976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文本框 1049609"/>
          <p:cNvSpPr/>
          <p:nvPr/>
        </p:nvSpPr>
        <p:spPr>
          <a:xfrm>
            <a:off x="7053120" y="2489760"/>
            <a:ext cx="879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文本框 1049610"/>
          <p:cNvSpPr/>
          <p:nvPr/>
        </p:nvSpPr>
        <p:spPr>
          <a:xfrm>
            <a:off x="307800" y="2968920"/>
            <a:ext cx="857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文本框 1049611"/>
          <p:cNvSpPr/>
          <p:nvPr/>
        </p:nvSpPr>
        <p:spPr>
          <a:xfrm>
            <a:off x="1052640" y="3007080"/>
            <a:ext cx="2682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答案不唯一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44" name="对象 1049613"/>
          <p:cNvGraphicFramePr/>
          <p:nvPr/>
        </p:nvGraphicFramePr>
        <p:xfrm>
          <a:off x="2168640" y="3549600"/>
          <a:ext cx="190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对象 10496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8640" y="354960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对象 1049614"/>
          <p:cNvGraphicFramePr/>
          <p:nvPr/>
        </p:nvGraphicFramePr>
        <p:xfrm>
          <a:off x="3303720" y="3549600"/>
          <a:ext cx="2030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对象 10496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03720" y="354960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文本框 1049615"/>
          <p:cNvSpPr/>
          <p:nvPr/>
        </p:nvSpPr>
        <p:spPr>
          <a:xfrm>
            <a:off x="7234200" y="3467520"/>
            <a:ext cx="936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文本框 1049616"/>
          <p:cNvSpPr/>
          <p:nvPr/>
        </p:nvSpPr>
        <p:spPr>
          <a:xfrm>
            <a:off x="409680" y="3962880"/>
            <a:ext cx="654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015809"/>
          <p:cNvSpPr/>
          <p:nvPr/>
        </p:nvSpPr>
        <p:spPr>
          <a:xfrm>
            <a:off x="263520" y="132084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×2=B÷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∶B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2∶3     B.3∶2      C.1∶6        D.6∶1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比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∶8=5∶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中，如果第一个比的前项加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要使这个比例成立，那第二个比的前项应加上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4        B.5          C.2          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法确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比例中，两个内项的积减去两个外项的积，结果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0        B.1          C.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        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法确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文本框 1015812"/>
          <p:cNvSpPr/>
          <p:nvPr/>
        </p:nvSpPr>
        <p:spPr>
          <a:xfrm>
            <a:off x="4483080" y="1778400"/>
            <a:ext cx="762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文本框 1015813"/>
          <p:cNvSpPr/>
          <p:nvPr/>
        </p:nvSpPr>
        <p:spPr>
          <a:xfrm>
            <a:off x="4622760" y="3300840"/>
            <a:ext cx="762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文本框 1015814"/>
          <p:cNvSpPr/>
          <p:nvPr/>
        </p:nvSpPr>
        <p:spPr>
          <a:xfrm>
            <a:off x="7556400" y="4293000"/>
            <a:ext cx="762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031169"/>
          <p:cNvSpPr/>
          <p:nvPr/>
        </p:nvSpPr>
        <p:spPr>
          <a:xfrm>
            <a:off x="254160" y="169848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中，去掉（  ），剩下的四个数能组成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2           B.3         C.5          D.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m=8n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改写成比例，下面正确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7∶m=8∶n       B.7∶n=8∶m      C.m∶n=7∶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文本框 1031173"/>
          <p:cNvSpPr/>
          <p:nvPr/>
        </p:nvSpPr>
        <p:spPr>
          <a:xfrm>
            <a:off x="4264200" y="1651320"/>
            <a:ext cx="89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文本框 1031174"/>
          <p:cNvSpPr/>
          <p:nvPr/>
        </p:nvSpPr>
        <p:spPr>
          <a:xfrm>
            <a:off x="5521320" y="2667240"/>
            <a:ext cx="895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1030145"/>
          <p:cNvSpPr/>
          <p:nvPr/>
        </p:nvSpPr>
        <p:spPr>
          <a:xfrm>
            <a:off x="254160" y="1473120"/>
            <a:ext cx="8619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58" name="图片 1030150" descr=""/>
          <p:cNvPicPr/>
          <p:nvPr/>
        </p:nvPicPr>
        <p:blipFill>
          <a:blip r:embed="rId1"/>
          <a:srcRect l="0" t="16330" r="0" b="0"/>
          <a:stretch/>
        </p:blipFill>
        <p:spPr>
          <a:xfrm>
            <a:off x="2090880" y="2152800"/>
            <a:ext cx="5083200" cy="26827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030151"/>
          <p:cNvSpPr/>
          <p:nvPr/>
        </p:nvSpPr>
        <p:spPr>
          <a:xfrm>
            <a:off x="2309760" y="3127320"/>
            <a:ext cx="207504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矩形 1030152"/>
          <p:cNvSpPr/>
          <p:nvPr/>
        </p:nvSpPr>
        <p:spPr>
          <a:xfrm>
            <a:off x="4818240" y="3214800"/>
            <a:ext cx="238896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028099" descr=""/>
          <p:cNvPicPr/>
          <p:nvPr/>
        </p:nvPicPr>
        <p:blipFill>
          <a:blip r:embed="rId1"/>
          <a:stretch/>
        </p:blipFill>
        <p:spPr>
          <a:xfrm>
            <a:off x="1986120" y="1924200"/>
            <a:ext cx="4991040" cy="2552400"/>
          </a:xfrm>
          <a:prstGeom prst="rect">
            <a:avLst/>
          </a:prstGeom>
          <a:ln w="0">
            <a:noFill/>
          </a:ln>
        </p:spPr>
      </p:pic>
      <p:sp>
        <p:nvSpPr>
          <p:cNvPr id="162" name="矩形 1028100"/>
          <p:cNvSpPr/>
          <p:nvPr/>
        </p:nvSpPr>
        <p:spPr>
          <a:xfrm>
            <a:off x="2004840" y="2890800"/>
            <a:ext cx="234180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矩形 1028101"/>
          <p:cNvSpPr/>
          <p:nvPr/>
        </p:nvSpPr>
        <p:spPr>
          <a:xfrm>
            <a:off x="4659480" y="2822400"/>
            <a:ext cx="234144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1043457"/>
          <p:cNvSpPr/>
          <p:nvPr/>
        </p:nvSpPr>
        <p:spPr>
          <a:xfrm>
            <a:off x="195120" y="147960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比例的性质判断下面每组中的两个比能不能组成比例。能组成比例的写出比例，不能组成比例的打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×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∶1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∶12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   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             （    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5∶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∶14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4∶1.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∶12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      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文本框 1043458"/>
          <p:cNvSpPr/>
          <p:nvPr/>
        </p:nvSpPr>
        <p:spPr>
          <a:xfrm>
            <a:off x="2928960" y="2975400"/>
            <a:ext cx="2346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∶14=6∶1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66" name="对象 1043459"/>
          <p:cNvGraphicFramePr/>
          <p:nvPr/>
        </p:nvGraphicFramePr>
        <p:xfrm>
          <a:off x="925560" y="3570120"/>
          <a:ext cx="11811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对象 10434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3570120"/>
                    <a:ext cx="1181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对象 1043460"/>
          <p:cNvGraphicFramePr/>
          <p:nvPr/>
        </p:nvGraphicFramePr>
        <p:xfrm>
          <a:off x="3106800" y="3559320"/>
          <a:ext cx="1130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对象 10434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6800" y="3559320"/>
                    <a:ext cx="1130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文本框 1043461"/>
          <p:cNvSpPr/>
          <p:nvPr/>
        </p:nvSpPr>
        <p:spPr>
          <a:xfrm>
            <a:off x="3139920" y="3949920"/>
            <a:ext cx="920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文本框 1043462"/>
          <p:cNvSpPr/>
          <p:nvPr/>
        </p:nvSpPr>
        <p:spPr>
          <a:xfrm>
            <a:off x="3255840" y="4458240"/>
            <a:ext cx="267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4∶1.6=3∶1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044481"/>
          <p:cNvSpPr/>
          <p:nvPr/>
        </p:nvSpPr>
        <p:spPr>
          <a:xfrm>
            <a:off x="195120" y="1193760"/>
            <a:ext cx="86202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根绳子，用去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用去的和剩下的比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: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这根绳子剩下多少米？（至少用两种方法解答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解：方法一：用比例解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设剩下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2∶x=4∶9    x=2.7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方法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用分数解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2×  =2.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方法三：用比的性质解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2÷4×9=2.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根绳子剩下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73" name="对象 1044482"/>
          <p:cNvGraphicFramePr/>
          <p:nvPr/>
        </p:nvGraphicFramePr>
        <p:xfrm>
          <a:off x="981000" y="3814920"/>
          <a:ext cx="2034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对象 10444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381492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1045505"/>
          <p:cNvSpPr/>
          <p:nvPr/>
        </p:nvSpPr>
        <p:spPr>
          <a:xfrm>
            <a:off x="195120" y="142236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已知三个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如果再添上一个数，使之能与已知三个数组成比例，这个数可以是多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用比例知识解答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设这个数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x=12×1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76" name="对象 1045506"/>
          <p:cNvGraphicFramePr/>
          <p:nvPr/>
        </p:nvGraphicFramePr>
        <p:xfrm>
          <a:off x="407880" y="4095720"/>
          <a:ext cx="1562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对象 10455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095720"/>
                    <a:ext cx="1562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254160" y="1616040"/>
            <a:ext cx="861984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∶6=  ∶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这个比例的内项是（  ）和（  ），外项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和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已知一个比例的两个内项的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一个外项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另一个外项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根据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×8=4×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写出两个比例（          ），（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文本框 377030"/>
          <p:cNvSpPr/>
          <p:nvPr/>
        </p:nvSpPr>
        <p:spPr>
          <a:xfrm>
            <a:off x="5014800" y="2540520"/>
            <a:ext cx="70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85" name="对象 377032"/>
          <p:cNvGraphicFramePr/>
          <p:nvPr/>
        </p:nvGraphicFramePr>
        <p:xfrm>
          <a:off x="6389640" y="2654280"/>
          <a:ext cx="2034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对象 377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9640" y="265428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文本框 377033"/>
          <p:cNvSpPr/>
          <p:nvPr/>
        </p:nvSpPr>
        <p:spPr>
          <a:xfrm>
            <a:off x="363600" y="3048480"/>
            <a:ext cx="797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文本框 377034"/>
          <p:cNvSpPr/>
          <p:nvPr/>
        </p:nvSpPr>
        <p:spPr>
          <a:xfrm>
            <a:off x="1494000" y="3048480"/>
            <a:ext cx="79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文本框 377035"/>
          <p:cNvSpPr/>
          <p:nvPr/>
        </p:nvSpPr>
        <p:spPr>
          <a:xfrm>
            <a:off x="704880" y="4051800"/>
            <a:ext cx="698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文本框 377037"/>
          <p:cNvSpPr/>
          <p:nvPr/>
        </p:nvSpPr>
        <p:spPr>
          <a:xfrm>
            <a:off x="4989600" y="4559760"/>
            <a:ext cx="169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∶4=6∶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文本框 377038"/>
          <p:cNvSpPr/>
          <p:nvPr/>
        </p:nvSpPr>
        <p:spPr>
          <a:xfrm>
            <a:off x="7245360" y="4610520"/>
            <a:ext cx="169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∶8=3∶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文本框 377039"/>
          <p:cNvSpPr/>
          <p:nvPr/>
        </p:nvSpPr>
        <p:spPr>
          <a:xfrm>
            <a:off x="42840" y="5105880"/>
            <a:ext cx="2625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答案不唯一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93" name="对象 377040"/>
          <p:cNvGraphicFramePr/>
          <p:nvPr/>
        </p:nvGraphicFramePr>
        <p:xfrm>
          <a:off x="1827360" y="2654280"/>
          <a:ext cx="2030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对象 3770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7360" y="265428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1050625"/>
          <p:cNvSpPr/>
          <p:nvPr/>
        </p:nvSpPr>
        <p:spPr>
          <a:xfrm>
            <a:off x="195120" y="1022400"/>
            <a:ext cx="86202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设这个数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y=9×1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y=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设这个数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z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6z=9×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z=6.7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数可以是   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.7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79" name="对象 1050626"/>
          <p:cNvGraphicFramePr/>
          <p:nvPr/>
        </p:nvGraphicFramePr>
        <p:xfrm>
          <a:off x="490680" y="2108160"/>
          <a:ext cx="10159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对象 10506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2108160"/>
                    <a:ext cx="1015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对象 1050627"/>
          <p:cNvGraphicFramePr/>
          <p:nvPr/>
        </p:nvGraphicFramePr>
        <p:xfrm>
          <a:off x="498600" y="4124160"/>
          <a:ext cx="10033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对象 10506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600" y="4124160"/>
                    <a:ext cx="1003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对象 1050628"/>
          <p:cNvGraphicFramePr/>
          <p:nvPr/>
        </p:nvGraphicFramePr>
        <p:xfrm>
          <a:off x="2597040" y="5094360"/>
          <a:ext cx="330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对象 10506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7040" y="5094360"/>
                    <a:ext cx="330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737282"/>
          <p:cNvSpPr/>
          <p:nvPr/>
        </p:nvSpPr>
        <p:spPr>
          <a:xfrm>
            <a:off x="254160" y="2190600"/>
            <a:ext cx="86198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用比例的基本性质判断下面每组中两个比能不能组成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∶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∶15          ②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文本框 737313"/>
          <p:cNvSpPr/>
          <p:nvPr/>
        </p:nvSpPr>
        <p:spPr>
          <a:xfrm>
            <a:off x="2573280" y="2854800"/>
            <a:ext cx="1158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不能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97" name="对象 737314"/>
          <p:cNvGraphicFramePr/>
          <p:nvPr/>
        </p:nvGraphicFramePr>
        <p:xfrm>
          <a:off x="4191120" y="2921040"/>
          <a:ext cx="13208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对象 7373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21040"/>
                    <a:ext cx="1320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文本框 737315"/>
          <p:cNvSpPr/>
          <p:nvPr/>
        </p:nvSpPr>
        <p:spPr>
          <a:xfrm>
            <a:off x="5742000" y="2903760"/>
            <a:ext cx="966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能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46529"/>
          <p:cNvSpPr/>
          <p:nvPr/>
        </p:nvSpPr>
        <p:spPr>
          <a:xfrm>
            <a:off x="195120" y="1746360"/>
            <a:ext cx="862020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根据比例的基本性质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∶2=35∶x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1" name="图片 1046535" descr=""/>
          <p:cNvPicPr/>
          <p:nvPr/>
        </p:nvPicPr>
        <p:blipFill>
          <a:blip r:embed="rId1"/>
          <a:stretch/>
        </p:blipFill>
        <p:spPr>
          <a:xfrm>
            <a:off x="2936880" y="2335320"/>
            <a:ext cx="5172120" cy="7617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046536" descr=""/>
          <p:cNvPicPr/>
          <p:nvPr/>
        </p:nvPicPr>
        <p:blipFill>
          <a:blip r:embed="rId2"/>
          <a:stretch/>
        </p:blipFill>
        <p:spPr>
          <a:xfrm>
            <a:off x="262080" y="3182760"/>
            <a:ext cx="192708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046537" descr=""/>
          <p:cNvPicPr/>
          <p:nvPr/>
        </p:nvPicPr>
        <p:blipFill>
          <a:blip r:embed="rId3"/>
          <a:stretch/>
        </p:blipFill>
        <p:spPr>
          <a:xfrm>
            <a:off x="2470320" y="3182760"/>
            <a:ext cx="1888920" cy="1211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046538" descr=""/>
          <p:cNvPicPr/>
          <p:nvPr/>
        </p:nvPicPr>
        <p:blipFill>
          <a:blip r:embed="rId4"/>
          <a:stretch/>
        </p:blipFill>
        <p:spPr>
          <a:xfrm>
            <a:off x="4470480" y="3182760"/>
            <a:ext cx="1666800" cy="12049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046539" descr=""/>
          <p:cNvPicPr/>
          <p:nvPr/>
        </p:nvPicPr>
        <p:blipFill>
          <a:blip r:embed="rId5"/>
          <a:stretch/>
        </p:blipFill>
        <p:spPr>
          <a:xfrm>
            <a:off x="6715080" y="3059280"/>
            <a:ext cx="17463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24001"/>
          <p:cNvSpPr/>
          <p:nvPr/>
        </p:nvSpPr>
        <p:spPr>
          <a:xfrm>
            <a:off x="254160" y="2120760"/>
            <a:ext cx="861984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七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42 T9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学校合唱组男生与女生人数的比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∶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合唱组男生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，女生有多少人？（你会用不同的方法解答吗？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012737"/>
          <p:cNvSpPr/>
          <p:nvPr/>
        </p:nvSpPr>
        <p:spPr>
          <a:xfrm>
            <a:off x="225360" y="137016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8" name="组合 1012746"/>
          <p:cNvGrpSpPr/>
          <p:nvPr/>
        </p:nvGrpSpPr>
        <p:grpSpPr>
          <a:xfrm>
            <a:off x="314280" y="2019240"/>
            <a:ext cx="8626680" cy="3390840"/>
            <a:chOff x="314280" y="2019240"/>
            <a:chExt cx="8626680" cy="3390840"/>
          </a:xfrm>
        </p:grpSpPr>
        <p:sp>
          <p:nvSpPr>
            <p:cNvPr id="109" name="矩形 1012745"/>
            <p:cNvSpPr/>
            <p:nvPr/>
          </p:nvSpPr>
          <p:spPr>
            <a:xfrm>
              <a:off x="314280" y="2019240"/>
              <a:ext cx="8622000" cy="33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10" name="图片 1012747" descr=""/>
            <p:cNvPicPr/>
            <p:nvPr/>
          </p:nvPicPr>
          <p:blipFill>
            <a:blip r:embed="rId1"/>
            <a:stretch/>
          </p:blipFill>
          <p:spPr>
            <a:xfrm>
              <a:off x="314280" y="2019240"/>
              <a:ext cx="8626680" cy="339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047553"/>
          <p:cNvSpPr/>
          <p:nvPr/>
        </p:nvSpPr>
        <p:spPr>
          <a:xfrm>
            <a:off x="254160" y="1698480"/>
            <a:ext cx="937728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七</a:t>
            </a: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P42 </a:t>
            </a: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思考题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果        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都不等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那么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∶n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，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m∶n=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2" name="对象 1047554"/>
          <p:cNvGraphicFramePr/>
          <p:nvPr/>
        </p:nvGraphicFramePr>
        <p:xfrm>
          <a:off x="1030320" y="2184480"/>
          <a:ext cx="10285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对象 10475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184480"/>
                    <a:ext cx="1028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对象 1047555"/>
          <p:cNvGraphicFramePr/>
          <p:nvPr/>
        </p:nvGraphicFramePr>
        <p:xfrm>
          <a:off x="412920" y="2822400"/>
          <a:ext cx="2793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对象 10475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920" y="2822400"/>
                    <a:ext cx="2793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对象 1047556"/>
          <p:cNvGraphicFramePr/>
          <p:nvPr/>
        </p:nvGraphicFramePr>
        <p:xfrm>
          <a:off x="3191040" y="4168800"/>
          <a:ext cx="9777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对象 10475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1040" y="4168800"/>
                    <a:ext cx="977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025025"/>
          <p:cNvSpPr/>
          <p:nvPr/>
        </p:nvSpPr>
        <p:spPr>
          <a:xfrm>
            <a:off x="263520" y="201312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对应法巧求三角形的边长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图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放大后的图形，你能求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值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19" name="组合 1025040"/>
          <p:cNvGrpSpPr/>
          <p:nvPr/>
        </p:nvGrpSpPr>
        <p:grpSpPr>
          <a:xfrm>
            <a:off x="1587600" y="3168720"/>
            <a:ext cx="5321160" cy="2006640"/>
            <a:chOff x="1587600" y="3168720"/>
            <a:chExt cx="5321160" cy="2006640"/>
          </a:xfrm>
        </p:grpSpPr>
        <p:sp>
          <p:nvSpPr>
            <p:cNvPr id="120" name="矩形 1025039"/>
            <p:cNvSpPr/>
            <p:nvPr/>
          </p:nvSpPr>
          <p:spPr>
            <a:xfrm>
              <a:off x="1587600" y="3168720"/>
              <a:ext cx="531468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21" name="图片 1025041" descr=""/>
            <p:cNvPicPr/>
            <p:nvPr/>
          </p:nvPicPr>
          <p:blipFill>
            <a:blip r:embed="rId1"/>
            <a:stretch/>
          </p:blipFill>
          <p:spPr>
            <a:xfrm>
              <a:off x="1587600" y="3168720"/>
              <a:ext cx="5321160" cy="200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048577"/>
          <p:cNvSpPr/>
          <p:nvPr/>
        </p:nvSpPr>
        <p:spPr>
          <a:xfrm>
            <a:off x="254160" y="172728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.4∶6=x∶7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=7.5×2.4÷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=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45Z</dcterms:created>
  <dc:creator>世纪金榜</dc:creator>
  <dc:description/>
  <dc:language>en-US</dc:language>
  <cp:lastModifiedBy>admin</cp:lastModifiedBy>
  <dcterms:modified xsi:type="dcterms:W3CDTF">2018-01-22T00:35:07Z</dcterms:modified>
  <cp:revision>1335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